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1.jpeg" ContentType="image/jpeg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B932-C47C-4277-B6C5-1150C105077B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76CA-03B8-4AC2-BA6A-799D232E69E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3818-DC93-40E6-9116-EE19D0A70F9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96EE-CC24-43F0-9177-20D588F6C3C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325B-BF3B-46C8-816F-D46D0D2F1D4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7FB5-D394-4C19-B3BB-C52C377C290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F91D-F09C-4B03-ACC4-28308FFC0AB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B7F7-C2D5-4AFA-AF74-9BB89BD605D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9555-A948-493E-AB85-721422AA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B3C7-5ED8-4322-92BD-A3F5CF4A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E259-CD36-4C38-8198-D37F3C6A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D04C-E6A3-4CB5-985E-14E1DD1F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B07-2293-4AEC-9FA6-13AC46D9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5132-D816-433F-A21B-08F9F54E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54EE-C786-41BB-AE9E-98369C27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56F2-DE78-478C-BE96-234679CD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D2CA-E429-4DBE-8DB8-B4579272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308C-E2E7-4EDA-83FD-ECC638F8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2992-F968-4110-B738-9262F7C2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CDA0-14D7-4604-8512-9AC47048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7" descr=""/>
          <p:cNvPicPr/>
          <p:nvPr/>
        </p:nvPicPr>
        <p:blipFill>
          <a:blip r:embed="rId2"/>
          <a:stretch/>
        </p:blipFill>
        <p:spPr>
          <a:xfrm>
            <a:off x="7732800" y="6045120"/>
            <a:ext cx="4286160" cy="676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64DC-7FC6-42DB-8CA2-DCE3348D932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m 2" descr=""/>
          <p:cNvPicPr/>
          <p:nvPr/>
        </p:nvPicPr>
        <p:blipFill>
          <a:blip r:embed="rId1"/>
          <a:stretch/>
        </p:blipFill>
        <p:spPr>
          <a:xfrm>
            <a:off x="0" y="-792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200" y="230040"/>
            <a:ext cx="804096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RESULTADO DO REGIME GERAL DE PREVIDÊNCIA SOCIAL – RGPS </a:t>
            </a:r>
            <a:endParaRPr b="1" lang="en-US" sz="4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" name="Retângulo 3"/>
          <p:cNvSpPr/>
          <p:nvPr/>
        </p:nvSpPr>
        <p:spPr>
          <a:xfrm>
            <a:off x="8253360" y="230040"/>
            <a:ext cx="364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Junho/202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98360" y="4549680"/>
            <a:ext cx="340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SECRETARIA DE PREVIDÊ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334800" y="8244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Imagem 1" descr=""/>
          <p:cNvPicPr/>
          <p:nvPr/>
        </p:nvPicPr>
        <p:blipFill>
          <a:blip r:embed="rId1"/>
          <a:stretch/>
        </p:blipFill>
        <p:spPr>
          <a:xfrm>
            <a:off x="423720" y="730080"/>
            <a:ext cx="11344320" cy="539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-57240" y="0"/>
            <a:ext cx="12192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Junho de 2020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51000" y="6469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Imagem 1" descr=""/>
          <p:cNvPicPr/>
          <p:nvPr/>
        </p:nvPicPr>
        <p:blipFill>
          <a:blip r:embed="rId1"/>
          <a:stretch/>
        </p:blipFill>
        <p:spPr>
          <a:xfrm>
            <a:off x="2228760" y="1052640"/>
            <a:ext cx="7734240" cy="47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263520" y="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63520" y="6483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Imagem 1" descr=""/>
          <p:cNvPicPr/>
          <p:nvPr/>
        </p:nvPicPr>
        <p:blipFill>
          <a:blip r:embed="rId1"/>
          <a:stretch/>
        </p:blipFill>
        <p:spPr>
          <a:xfrm>
            <a:off x="2228760" y="1157400"/>
            <a:ext cx="7734240" cy="45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2135160" y="1052640"/>
            <a:ext cx="799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TENDÊNCI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, DESPESA E NECESSIDADE DE FINANCIAM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63360"/>
            <a:ext cx="121921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 e Despesa com Benefícios Previdenciários, nos últimos 25 mese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20 - INPC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995720" y="1122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3360" y="623556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Imagem 1" descr=""/>
          <p:cNvPicPr/>
          <p:nvPr/>
        </p:nvPicPr>
        <p:blipFill>
          <a:blip r:embed="rId1"/>
          <a:stretch/>
        </p:blipFill>
        <p:spPr>
          <a:xfrm>
            <a:off x="1528920" y="711360"/>
            <a:ext cx="9134280" cy="53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147600"/>
            <a:ext cx="12134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Arial Unicode MS"/>
              </a:rPr>
              <a:t>Composição da Arrecadação Líqu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Corrente, Recuperação de Créditos e Transferência a Terceiros, nos últimos 25 mese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20 - INP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61920" y="6257880"/>
            <a:ext cx="67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Imagem 1" descr=""/>
          <p:cNvPicPr/>
          <p:nvPr/>
        </p:nvPicPr>
        <p:blipFill>
          <a:blip r:embed="rId1"/>
          <a:stretch/>
        </p:blipFill>
        <p:spPr>
          <a:xfrm>
            <a:off x="1528920" y="1082520"/>
            <a:ext cx="913428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28440"/>
            <a:ext cx="121921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Arial Unicode MS"/>
              </a:rPr>
              <a:t>Composição da Despesa com Benefícios Previdenciár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Pagos pelo INSS e Sentenças Judiciais nos últimos 25 mese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– Em R$ bilhões de Junho/2020 (INP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1"/>
          <a:stretch/>
        </p:blipFill>
        <p:spPr>
          <a:xfrm>
            <a:off x="1528920" y="1049400"/>
            <a:ext cx="990576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52560" y="104760"/>
            <a:ext cx="1213956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a Previdência Social nos últimos 25 meses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20 - INP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2560" y="646416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Imagem 1" descr=""/>
          <p:cNvPicPr/>
          <p:nvPr/>
        </p:nvPicPr>
        <p:blipFill>
          <a:blip r:embed="rId1"/>
          <a:stretch/>
        </p:blipFill>
        <p:spPr>
          <a:xfrm>
            <a:off x="804960" y="873000"/>
            <a:ext cx="1035216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139680"/>
            <a:ext cx="12192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 por Clientela – Média móvel de 12 mes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(Janeiro/2011 a Junho/2020)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Junho/2020 - INP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m 1" descr=""/>
          <p:cNvPicPr/>
          <p:nvPr/>
        </p:nvPicPr>
        <p:blipFill>
          <a:blip r:embed="rId1"/>
          <a:stretch/>
        </p:blipFill>
        <p:spPr>
          <a:xfrm>
            <a:off x="544680" y="896760"/>
            <a:ext cx="1081404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66600" y="0"/>
            <a:ext cx="12042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 – Média móvel de 12 mes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Janeiro/2011 a Junho/2020)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20 (INPC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Imagem 1" descr=""/>
          <p:cNvPicPr/>
          <p:nvPr/>
        </p:nvPicPr>
        <p:blipFill>
          <a:blip r:embed="rId1"/>
          <a:stretch/>
        </p:blipFill>
        <p:spPr>
          <a:xfrm>
            <a:off x="1528920" y="763560"/>
            <a:ext cx="10156680" cy="52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523880" y="206064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EMITID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(ESTOQU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1219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Emitidos Administrados pelo INSS –</a:t>
            </a:r>
            <a:r>
              <a:rPr b="1" lang="pt-BR" sz="1700" spc="-1" strike="noStrike">
                <a:solidFill>
                  <a:srgbClr val="cc0000"/>
                </a:solidFill>
                <a:latin typeface="Arial"/>
                <a:ea typeface="Arial Unicode MS"/>
              </a:rPr>
              <a:t> Junho/2019, Maio/2020 e Junho/202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34800" y="6502320"/>
            <a:ext cx="108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responsabilidade do Ministério da Cidadani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Imagem 2" descr=""/>
          <p:cNvPicPr/>
          <p:nvPr/>
        </p:nvPicPr>
        <p:blipFill>
          <a:blip r:embed="rId1"/>
          <a:stretch/>
        </p:blipFill>
        <p:spPr>
          <a:xfrm>
            <a:off x="503280" y="433440"/>
            <a:ext cx="11166480" cy="56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541440"/>
            <a:ext cx="1219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tre dezembro de 2011 e Junho de 2020, a quantidade de benefícios previdenciários e acidentários emitidos pela Previdência aumentou 22,7%, passando de 25,2 milhões para 30,9 milhõ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680" y="122400"/>
            <a:ext cx="1218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volução da Quantidade de Benefícios Emitidos pelo INSS</a:t>
            </a:r>
            <a:r>
              <a:rPr b="1" i="1" lang="pt-BR" sz="1600" spc="-1" strike="noStrike">
                <a:solidFill>
                  <a:srgbClr val="ed7d31"/>
                </a:solidFill>
                <a:latin typeface="Arial"/>
                <a:ea typeface="Arial Unicode MS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Em milhões de benefícios - 2011 a 2019 (dezembro), 2020 (Junh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0" y="6026040"/>
            <a:ext cx="78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responsabilidade da Cidadani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Imagem 1" descr=""/>
          <p:cNvPicPr/>
          <p:nvPr/>
        </p:nvPicPr>
        <p:blipFill>
          <a:blip r:embed="rId1"/>
          <a:stretch/>
        </p:blipFill>
        <p:spPr>
          <a:xfrm>
            <a:off x="260280" y="998640"/>
            <a:ext cx="11744280" cy="49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60480"/>
            <a:ext cx="12109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alor Médio Real dos Benefícios Pagos pelo INSS (2013 a 2020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Média de Janeiro a Junho de cada ano – Em R$ de Junho/2020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66840" y="546120"/>
            <a:ext cx="11544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O valor médio real dos benefícios da Previdência Social atingiu R$ 1.650,81 na média de Janeiro a Junho de 2020, o que representou um crescimento de 27,4% em relação ao mesmo período de 2013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555600" y="4956120"/>
            <a:ext cx="109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Variaçã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+27,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5"/>
          <p:cNvSpPr/>
          <p:nvPr/>
        </p:nvSpPr>
        <p:spPr>
          <a:xfrm flipV="1">
            <a:off x="3187800" y="5229360"/>
            <a:ext cx="3375000" cy="63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6"/>
          <p:cNvSpPr/>
          <p:nvPr/>
        </p:nvSpPr>
        <p:spPr>
          <a:xfrm flipH="1">
            <a:off x="7608960" y="2558880"/>
            <a:ext cx="3271680" cy="2533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92240" y="6311880"/>
            <a:ext cx="8610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Inclui apenas os benefícios previdenciários e acidentário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Imagem 1" descr=""/>
          <p:cNvPicPr/>
          <p:nvPr/>
        </p:nvPicPr>
        <p:blipFill>
          <a:blip r:embed="rId1"/>
          <a:stretch/>
        </p:blipFill>
        <p:spPr>
          <a:xfrm>
            <a:off x="444600" y="1249200"/>
            <a:ext cx="11299680" cy="48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09440" y="6080040"/>
            <a:ext cx="7608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s: DATAPREV, SUB, SINTESE.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Obs.: A existência de benefícios com valores inferiores ao salário mínimo deve-se ao desmembramento de pensões e ao pagamento de benefícios como o salário-família, o auxílio suplementar, o auxílio acidente e o abono de permanência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729320" y="1585800"/>
            <a:ext cx="554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0000"/>
                </a:solidFill>
                <a:latin typeface="Arial"/>
              </a:rPr>
              <a:t>Cerca de 67,3% dos benefícios pagos pelo INSS em Junho/2020 possuíam o valor de até um salário mínimo, o que representa um contingente de 24,1 milhões de beneficiários direto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84120" y="163440"/>
            <a:ext cx="1080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istribuição de Benefícios Emitidos, segundo faixas de Valor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Em Pisos Previdenciários (Posição Junho/202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Imagem 1" descr=""/>
          <p:cNvPicPr/>
          <p:nvPr/>
        </p:nvPicPr>
        <p:blipFill>
          <a:blip r:embed="rId1"/>
          <a:stretch/>
        </p:blipFill>
        <p:spPr>
          <a:xfrm>
            <a:off x="217440" y="763560"/>
            <a:ext cx="11628360" cy="51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magem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69840"/>
            <a:ext cx="12192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9 e 2020) – Em R$ milhões de Junho/2020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61815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m 1" descr=""/>
          <p:cNvPicPr/>
          <p:nvPr/>
        </p:nvPicPr>
        <p:blipFill>
          <a:blip r:embed="rId1"/>
          <a:stretch/>
        </p:blipFill>
        <p:spPr>
          <a:xfrm>
            <a:off x="299880" y="1219320"/>
            <a:ext cx="11592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12192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9 e 2020) – Em R$ m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62406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m 1" descr=""/>
          <p:cNvPicPr/>
          <p:nvPr/>
        </p:nvPicPr>
        <p:blipFill>
          <a:blip r:embed="rId1"/>
          <a:stretch/>
        </p:blipFill>
        <p:spPr>
          <a:xfrm>
            <a:off x="299880" y="1209600"/>
            <a:ext cx="11592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12192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9 e 2020) – Em R$ milhões de Junho/2020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76320" y="605808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magem 1" descr=""/>
          <p:cNvPicPr/>
          <p:nvPr/>
        </p:nvPicPr>
        <p:blipFill>
          <a:blip r:embed="rId1"/>
          <a:stretch/>
        </p:blipFill>
        <p:spPr>
          <a:xfrm>
            <a:off x="781200" y="1552680"/>
            <a:ext cx="1062972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87480"/>
            <a:ext cx="12192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9 e 2020) – Em R$ m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0" y="61722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Imagem 1" descr=""/>
          <p:cNvPicPr/>
          <p:nvPr/>
        </p:nvPicPr>
        <p:blipFill>
          <a:blip r:embed="rId1"/>
          <a:stretch/>
        </p:blipFill>
        <p:spPr>
          <a:xfrm>
            <a:off x="781200" y="1571760"/>
            <a:ext cx="1062972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312840" y="63360"/>
            <a:ext cx="10801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Junho de 2020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0" y="62895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Imagem 1" descr=""/>
          <p:cNvPicPr/>
          <p:nvPr/>
        </p:nvPicPr>
        <p:blipFill>
          <a:blip r:embed="rId1"/>
          <a:stretch/>
        </p:blipFill>
        <p:spPr>
          <a:xfrm>
            <a:off x="423720" y="771480"/>
            <a:ext cx="11344320" cy="532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8T13:56:17Z</dcterms:created>
  <dc:creator>Jamil Miranda Ghani</dc:creator>
  <dc:description/>
  <dc:language>en-US</dc:language>
  <cp:lastModifiedBy>Colegiado</cp:lastModifiedBy>
  <dcterms:modified xsi:type="dcterms:W3CDTF">2020-07-29T19:19:46Z</dcterms:modified>
  <cp:revision>47</cp:revision>
  <dc:subject/>
  <dc:title>Apresentação do PowerPoint</dc:title>
</cp:coreProperties>
</file>